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16.jpeg" ContentType="image/jpeg"/>
  <Override PartName="/ppt/media/image27.png" ContentType="image/png"/>
  <Override PartName="/ppt/media/image24.pct" ContentType="image/x-pict"/>
  <Override PartName="/ppt/media/image33.jpeg" ContentType="image/jpeg"/>
  <Override PartName="/ppt/media/image26.png" ContentType="image/png"/>
  <Override PartName="/ppt/media/image23.pct" ContentType="image/x-pict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ct" ContentType="image/x-pict"/>
  <Override PartName="/ppt/media/image37.png" ContentType="image/png"/>
  <Override PartName="/ppt/media/image7.png" ContentType="image/png"/>
  <Override PartName="/ppt/media/image12.png" ContentType="image/png"/>
  <Override PartName="/ppt/media/image38.jpeg" ContentType="image/jpeg"/>
  <Override PartName="/ppt/media/image40.jpeg" ContentType="image/jpeg"/>
  <Override PartName="/ppt/media/image9.png" ContentType="image/png"/>
  <Override PartName="/ppt/media/image36.pct" ContentType="image/x-pict"/>
  <Override PartName="/ppt/media/image13.png" ContentType="image/png"/>
  <Override PartName="/ppt/media/image30.pct" ContentType="image/x-pict"/>
  <Override PartName="/ppt/media/image42.png" ContentType="image/png"/>
  <Override PartName="/ppt/media/image28.pct" ContentType="image/x-pict"/>
  <Override PartName="/ppt/media/image34.png" ContentType="image/png"/>
  <Override PartName="/ppt/media/image31.pct" ContentType="image/x-pict"/>
  <Override PartName="/ppt/media/image43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9.pct" ContentType="image/x-pict"/>
  <Override PartName="/ppt/media/image21.pct" ContentType="image/x-pict"/>
  <Override PartName="/ppt/media/image32.pct" ContentType="image/x-pict"/>
  <Override PartName="/ppt/media/image5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AF2E-C8A7-47C5-B06A-DD2CBB7B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7F80-BFC1-4BCE-BF6E-3049F42AA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Donna Palle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B536-BF7F-4666-AAC4-49954AC85C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or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758-E78A-4C18-970B-95E198EF0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shley movie- science center using Speaking dynamically living vs. non living things.  Show multiple presentation of a book….. Regular, adapted and on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80C-582D-47C8-A3D3-0A190DF39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writer mov. Showing different writing centers + leaf powerpoint w/ embedded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 also includes opportunities for rehearsal/practice of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Inspiration file of Boston t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pace 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D6D-E0A4-45F4-8843-8FBC61F88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intellitools/smartboard mov.-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55AC-D2C3-46C4-8A1B-4025A6E72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ear of technolog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E0DA-B8D4-4ACD-AE25-DE511C7426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start using tools that are helpful for all, necessary for some – will we need to consider “assistive” technology anymore – or will it just be “technology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18C-0775-4448-B0FB-11190C842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vides a framework that helps parents and educators understand how students with intellectual disabilities like Down syndrome can participate in the grade level curriculu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B7F-64A3-404C-8A3B-5ADFF8F86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Carolina Sta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4478-7898-439C-B4C6-91619F66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A267-CCEB-4F91-B9DF-7C02BEA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07D7-2B2D-4067-882E-6991CB84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2AE7-593B-4835-A422-6D2B4F9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14B8-A190-4D3E-9C68-E2E22490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66E-E9CA-45CD-9077-A709DC4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5581-C2CE-4022-A206-D13D918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CFCA-2964-4F4A-BB7A-27A629E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DF82-6D14-4397-BB11-910FDD8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BA2A-7B65-4203-B11C-E939675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B98-4993-435C-9CE9-E57064F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2377-15D1-417F-9A65-47D34387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234C-1494-4F5D-9396-16204A1F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C2E-0B3A-414C-B36E-8B173911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13C1-AF59-48DD-BE43-415FA73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1A69-9306-4018-9DF8-DC56BD04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000-9890-48B4-B3E4-44E7F5E6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59CA-1C2B-4530-A61A-2B9153B1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7001-50D7-49ED-9B4B-8FB9A5C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0B1F-D87B-44BA-8B09-0CE4A5A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7E13-D854-45B2-9975-A1BB9B26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F405-1582-4342-9ECE-AF451AC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4D7A-B72D-40F7-8CE0-168D939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D5CD-1ADA-4C4E-822A-B3240692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8FDF-622F-4F09-A330-FF270B5F6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1113-2BBC-4863-ACDC-DB7B5C4A7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ng"/><Relationship Id="rId3" Type="http://schemas.openxmlformats.org/officeDocument/2006/relationships/image" Target="../media/image19.pct"/><Relationship Id="rId4" Type="http://schemas.openxmlformats.org/officeDocument/2006/relationships/image" Target="../media/image20.png"/><Relationship Id="rId5" Type="http://schemas.openxmlformats.org/officeDocument/2006/relationships/image" Target="../media/image21.pct"/><Relationship Id="rId6" Type="http://schemas.openxmlformats.org/officeDocument/2006/relationships/image" Target="../media/image22.png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8.pct"/><Relationship Id="rId6" Type="http://schemas.openxmlformats.org/officeDocument/2006/relationships/image" Target="../media/image29.pct"/><Relationship Id="rId7" Type="http://schemas.openxmlformats.org/officeDocument/2006/relationships/image" Target="../media/image30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bgfl.org/bgfl/custom/resources_ftp/client_ftp/ks3/ict/multiple_int/questions/choose_lang.cfm" TargetMode="External"/><Relationship Id="rId2" Type="http://schemas.openxmlformats.org/officeDocument/2006/relationships/hyperlink" Target="http://www.bgfl.org/bgfl/custom/resources_ftp/client_ftp/ks3/ict/multiple_int/questions/choose_lang.cfm" TargetMode="External"/><Relationship Id="rId3" Type="http://schemas.openxmlformats.org/officeDocument/2006/relationships/hyperlink" Target="http://www.ldrc.ca/projects/miinventory/miinventory.php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880" y="15238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Assistive Technology, Universal Classroom Design, and Inclusion</a:t>
            </a:r>
            <a:br>
              <a:rPr sz="2800"/>
            </a:b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8120" y="4091760"/>
            <a:ext cx="5790960" cy="3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What is Universal Design for Learning (UDL)?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10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UDL is a framework that aims to accommodate a broad spectrum of learners by requiring a range of options for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accessing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using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engaging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with learning materials.  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ese multiple means of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presentation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xpression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ngagement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reduce barriers for individuals with disabilities but also enhance opportunities for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student. 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e key is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flexibilit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not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uniformit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83080" y="640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cast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NCLB – it’s the law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43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tudents must be educated in accordance with grade-level state content standards. If your child takes an alternate assessment, it must be based on standards that are aligned to grade-level content.”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IDEA – it’s the law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tudents, regardless of their abilities, must be given the opportunity to become involved with and progress in the general education curriculum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very student must have </a:t>
            </a:r>
            <a:r>
              <a:rPr b="1" i="1" lang="en-US" sz="2800" spc="-1" strike="noStrike">
                <a:solidFill>
                  <a:srgbClr val="ffffff"/>
                </a:solidFill>
                <a:latin typeface="Baskerville Old Face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o what is being taught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14600" y="2286000"/>
            <a:ext cx="4038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earning dis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Attention Deficit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Autism Spectrum Dis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ow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aring 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Physical Impair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nglish Language Lear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General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Baskerville Old Face"/>
              </a:rPr>
              <a:t>Striving to Reach ALL Learn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52480" y="38862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162576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954840" y="4543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249876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923400" y="5667480"/>
            <a:ext cx="76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 Universally Designed Classroom, could we level the playing field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“disabilities” be less appa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Donna Palle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iversal Design:  Concept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quitable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Designed to be useful for people with diverse abilitie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Flexibility in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To accommodate a wide range of individual abilities</a:t>
            </a: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imple and Intuitive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Easy to understand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Perceptible Informatio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Information communicated effectively regardless of abilitie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Tolerance for Error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Minimizes accidents or unintended action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Low Physical Effort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Can be used comfortable with minimal fatigu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ize and Space for Approach and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Supports access regardless of user’s body size, posture or mobility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Brain Research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sensory inputs are interpreted across different regions of the brai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parts of the brain are activated when completing the same task…when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goal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s differen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ly abled individuals use different parts of the brain to process informatio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77" name="Picture 4" descr="Chapter 2-4"/>
          <p:cNvPicPr/>
          <p:nvPr/>
        </p:nvPicPr>
        <p:blipFill>
          <a:blip r:embed="rId1"/>
          <a:stretch/>
        </p:blipFill>
        <p:spPr>
          <a:xfrm>
            <a:off x="5867280" y="457200"/>
            <a:ext cx="281952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Principles of UDL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representation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give learners various ways of acquiring information and knowledge, 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expression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provide learners alternatives for demonstrating what they know, 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engagement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tap into learners' interests, offer appropriate challenges, and increase motivation.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lps to reduce barriers for individuals with disabilities but also enhances opportunities for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every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udent.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1. Provide multiple flexible method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of </a:t>
            </a:r>
            <a:r>
              <a:rPr b="1" i="1" lang="en-US" sz="3600" spc="-1" strike="noStrike">
                <a:solidFill>
                  <a:srgbClr val="ccecff"/>
                </a:solidFill>
                <a:latin typeface="Baskerville Old Face"/>
              </a:rPr>
              <a:t>re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presentat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81" name="Picture 6" descr="MCj03512400000[1]"/>
          <p:cNvPicPr/>
          <p:nvPr/>
        </p:nvPicPr>
        <p:blipFill>
          <a:blip r:embed="rId1"/>
          <a:stretch/>
        </p:blipFill>
        <p:spPr>
          <a:xfrm>
            <a:off x="762120" y="4114800"/>
            <a:ext cx="1441440" cy="157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4419720" y="472428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Cj00890080000[1]"/>
          <p:cNvPicPr/>
          <p:nvPr/>
        </p:nvPicPr>
        <p:blipFill>
          <a:blip r:embed="rId3"/>
          <a:stretch/>
        </p:blipFill>
        <p:spPr>
          <a:xfrm>
            <a:off x="7867800" y="3733920"/>
            <a:ext cx="1271520" cy="1141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6019920" y="2590920"/>
            <a:ext cx="1733400" cy="2133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MCj03518350000[1]"/>
          <p:cNvPicPr/>
          <p:nvPr/>
        </p:nvPicPr>
        <p:blipFill>
          <a:blip r:embed="rId5"/>
          <a:stretch/>
        </p:blipFill>
        <p:spPr>
          <a:xfrm>
            <a:off x="6705720" y="4876920"/>
            <a:ext cx="1218960" cy="93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6"/>
          <a:stretch/>
        </p:blipFill>
        <p:spPr>
          <a:xfrm>
            <a:off x="228600" y="2819520"/>
            <a:ext cx="1373040" cy="1684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MCj01564490000[1]"/>
          <p:cNvPicPr/>
          <p:nvPr/>
        </p:nvPicPr>
        <p:blipFill>
          <a:blip r:embed="rId7"/>
          <a:stretch/>
        </p:blipFill>
        <p:spPr>
          <a:xfrm>
            <a:off x="2362320" y="342900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MCj02451570000[1]"/>
          <p:cNvPicPr/>
          <p:nvPr/>
        </p:nvPicPr>
        <p:blipFill>
          <a:blip r:embed="rId8"/>
          <a:stretch/>
        </p:blipFill>
        <p:spPr>
          <a:xfrm>
            <a:off x="3886200" y="2133720"/>
            <a:ext cx="204624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2. Provide multiple, flexible methods of 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express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99360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1436760" cy="174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1795320" cy="2209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7467480" y="2133720"/>
            <a:ext cx="1231920" cy="160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MCj01982660000[1]"/>
          <p:cNvPicPr/>
          <p:nvPr/>
        </p:nvPicPr>
        <p:blipFill>
          <a:blip r:embed="rId5"/>
          <a:stretch/>
        </p:blipFill>
        <p:spPr>
          <a:xfrm>
            <a:off x="3886200" y="4419720"/>
            <a:ext cx="1531800" cy="13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MCj04041270000[1]"/>
          <p:cNvPicPr/>
          <p:nvPr/>
        </p:nvPicPr>
        <p:blipFill>
          <a:blip r:embed="rId6"/>
          <a:stretch/>
        </p:blipFill>
        <p:spPr>
          <a:xfrm>
            <a:off x="3809880" y="1905120"/>
            <a:ext cx="166860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MCj02810870000[1]"/>
          <p:cNvPicPr/>
          <p:nvPr/>
        </p:nvPicPr>
        <p:blipFill>
          <a:blip r:embed="rId7"/>
          <a:stretch/>
        </p:blipFill>
        <p:spPr>
          <a:xfrm>
            <a:off x="5943600" y="3505320"/>
            <a:ext cx="10144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914400" y="2635200"/>
            <a:ext cx="7315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these inventions will produce forgetfulness in the souls of those who use it.  They will not need to exercise their minds…It equips pupils with only a semblance of learning, not true learning.  Thanks to these inventions, students will be without benefit of a teacher’s instruct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447920" y="20574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Plato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- circa 387 b.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4952880"/>
            <a:ext cx="7162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his person was referring to BOO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828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A Criticism of New 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lato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86600" y="4191120"/>
            <a:ext cx="192420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8" name="Rectangle 7"/>
          <p:cNvSpPr/>
          <p:nvPr/>
        </p:nvSpPr>
        <p:spPr>
          <a:xfrm>
            <a:off x="3090240" y="16002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An adaptation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3. Support multiple, flexible options for 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engagement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99" name="Picture 6" descr="MCj02825880000[1]"/>
          <p:cNvPicPr/>
          <p:nvPr/>
        </p:nvPicPr>
        <p:blipFill>
          <a:blip r:embed="rId1"/>
          <a:stretch/>
        </p:blipFill>
        <p:spPr>
          <a:xfrm>
            <a:off x="1066680" y="2057400"/>
            <a:ext cx="319248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MCj03981250000[1]"/>
          <p:cNvPicPr/>
          <p:nvPr/>
        </p:nvPicPr>
        <p:blipFill>
          <a:blip r:embed="rId2"/>
          <a:stretch/>
        </p:blipFill>
        <p:spPr>
          <a:xfrm>
            <a:off x="5791320" y="2666880"/>
            <a:ext cx="2385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Why use Digital Media?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ngage all studen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vide Access to curriculum for all studen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nhance engagement in learning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vide repetition and rehearsal of concep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xtend teachers’ reach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203" name="Picture 6" descr="video-ipod"/>
          <p:cNvPicPr/>
          <p:nvPr/>
        </p:nvPicPr>
        <p:blipFill>
          <a:blip r:embed="rId1"/>
          <a:stretch/>
        </p:blipFill>
        <p:spPr>
          <a:xfrm>
            <a:off x="228600" y="2362320"/>
            <a:ext cx="1271520" cy="1852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slim%20dvd%20player"/>
          <p:cNvPicPr/>
          <p:nvPr/>
        </p:nvPicPr>
        <p:blipFill>
          <a:blip r:embed="rId2"/>
          <a:stretch/>
        </p:blipFill>
        <p:spPr>
          <a:xfrm>
            <a:off x="4648320" y="5105520"/>
            <a:ext cx="1084320" cy="121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xerox_6400_scanner"/>
          <p:cNvPicPr/>
          <p:nvPr/>
        </p:nvPicPr>
        <p:blipFill>
          <a:blip r:embed="rId3"/>
          <a:stretch/>
        </p:blipFill>
        <p:spPr>
          <a:xfrm>
            <a:off x="6762600" y="4267080"/>
            <a:ext cx="2381400" cy="1362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MCj03968520000[1]"/>
          <p:cNvPicPr/>
          <p:nvPr/>
        </p:nvPicPr>
        <p:blipFill>
          <a:blip r:embed="rId4"/>
          <a:stretch/>
        </p:blipFill>
        <p:spPr>
          <a:xfrm>
            <a:off x="6858000" y="1219320"/>
            <a:ext cx="1819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UDL and Assistive Technology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0666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T looks at overcoming the barriers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Individual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faces in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DL looks at making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learning environment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as flexible and accommodating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OTH approaches strive to insure the access, participation and progress of students with dis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822760" y="62038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Joy Zabala and Skip Sta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cus is on providing a curriculum that is inherently accessible for the widest range of students possible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ools that support UDL: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Baskerville Old Face"/>
              </a:rPr>
              <a:t>Essential for Some, Beneficial for ALL</a:t>
            </a:r>
            <a:endParaRPr b="0" lang="en-US" sz="32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universal design of curriculum objectives, instructional materials, teaching methods and assessments has tremendous potential to improve the education of all children, but it is 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especially important for students with disabilities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900880" y="624852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National Down Syndrome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Ultimately, educational goals will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not be about the mastery of content,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but about the mastery of learning.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askerville Old Face"/>
              </a:rPr>
              <a:t>Grace Meo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354120" y="617220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:  www.cast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Baskerville Old Face"/>
              </a:rPr>
              <a:t>Ultimately, it’s about our STUDENTS…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MVC-005S"/>
          <p:cNvPicPr/>
          <p:nvPr/>
        </p:nvPicPr>
        <p:blipFill>
          <a:blip r:embed="rId2"/>
          <a:stretch/>
        </p:blipFill>
        <p:spPr>
          <a:xfrm>
            <a:off x="6858000" y="41148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8"/>
          <p:cNvSpPr/>
          <p:nvPr/>
        </p:nvSpPr>
        <p:spPr>
          <a:xfrm>
            <a:off x="457200" y="1371600"/>
            <a:ext cx="8153280" cy="76320"/>
          </a:xfrm>
          <a:prstGeom prst="parallelogram">
            <a:avLst>
              <a:gd name="adj" fmla="val -2394065"/>
            </a:avLst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6934320" y="1981080"/>
            <a:ext cx="1828800" cy="1752840"/>
            <a:chOff x="6934320" y="1981080"/>
            <a:chExt cx="1828800" cy="1752840"/>
          </a:xfrm>
        </p:grpSpPr>
        <p:pic>
          <p:nvPicPr>
            <p:cNvPr id="222" name="Picture 10" descr="more 001"/>
            <p:cNvPicPr/>
            <p:nvPr/>
          </p:nvPicPr>
          <p:blipFill>
            <a:blip r:embed="rId3"/>
            <a:stretch/>
          </p:blipFill>
          <p:spPr>
            <a:xfrm>
              <a:off x="6969240" y="2055960"/>
              <a:ext cx="1758960" cy="1635120"/>
            </a:xfrm>
            <a:prstGeom prst="rect">
              <a:avLst/>
            </a:prstGeom>
            <a:ln w="9360">
              <a:solidFill>
                <a:srgbClr val="fdffff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223" name="Line 11"/>
            <p:cNvSpPr/>
            <p:nvPr/>
          </p:nvSpPr>
          <p:spPr>
            <a:xfrm>
              <a:off x="6934320" y="1981080"/>
              <a:ext cx="0" cy="1752840"/>
            </a:xfrm>
            <a:prstGeom prst="line">
              <a:avLst/>
            </a:prstGeom>
            <a:ln w="9360">
              <a:solidFill>
                <a:srgbClr val="7091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>
              <a:off x="8763120" y="1981080"/>
              <a:ext cx="0" cy="1752840"/>
            </a:xfrm>
            <a:prstGeom prst="line">
              <a:avLst/>
            </a:prstGeom>
            <a:ln w="9360">
              <a:solidFill>
                <a:srgbClr val="7091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6934320" y="198108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6934320" y="373392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7" name="Picture 15" descr="Kidsatcomputer"/>
          <p:cNvPicPr/>
          <p:nvPr/>
        </p:nvPicPr>
        <p:blipFill>
          <a:blip r:embed="rId4"/>
          <a:stretch/>
        </p:blipFill>
        <p:spPr>
          <a:xfrm>
            <a:off x="3962520" y="17524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2971800" cy="200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3047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he Power of Making things Digital…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231" name="Picture 3" descr="Chapter 1 Graphical Organizer"/>
          <p:cNvPicPr/>
          <p:nvPr/>
        </p:nvPicPr>
        <p:blipFill>
          <a:blip r:embed="rId1"/>
          <a:srcRect l="0" t="0" r="-1997" b="28668"/>
          <a:stretch/>
        </p:blipFill>
        <p:spPr>
          <a:xfrm>
            <a:off x="1752480" y="1943280"/>
            <a:ext cx="57531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590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echnology Tools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o Support UDL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Low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ncil grip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elcr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yer-Johnson Symbol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oice Output Devic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icture and Word “Walls”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ighlighter tape, highlight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ised-line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lant-Board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pe Recorders/Digital Record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ost-it Not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efty Tab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lored Acetate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lculato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raph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ranklin Produc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Quicktionary Reading P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phasmart/Neo/Dan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3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Technology helps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1981080"/>
            <a:ext cx="419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. . . ordinary people do extraordinary things. Technology helps extraordinary people do ordinary thing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0001EFCOHI"/>
          <p:cNvPicPr/>
          <p:nvPr/>
        </p:nvPicPr>
        <p:blipFill>
          <a:blip r:embed="rId1"/>
          <a:stretch/>
        </p:blipFill>
        <p:spPr>
          <a:xfrm>
            <a:off x="4724280" y="1447920"/>
            <a:ext cx="4132440" cy="4524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057760" y="62485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Scully (middle), Apple Computer, late 1980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Mid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tart-to-Finish Boo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iggleWor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ntellitool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iving Boo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owerPoint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ord Processors (Word, Appleworks,etc.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ooks on Tap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witch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p3 Play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Keyboarding Programs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Type-to-Learn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urriculum Softwar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Scholastic, Tom Snyder, Riverdeep, see Stages Online Resources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x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ol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ord Prediction Softwar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Co:Writer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WordQ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lking Word Processo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WriteOutLoud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Intellitalk II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ReadPlease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48320" y="1897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High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Voice-Recognition Softwar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Dragon Systems, ViaVoice, IListen, Microsoft, SpeakQ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Organizational Softwar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Inspiration, Kidspiration, Spark Spac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canning Tool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Kurzweil 3000, Cast eReader, Wynn, PAT, Read&amp;Write Gold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omputerized Study Strategi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Thinking Reader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Microsoft Offic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lectronic Learning Environmen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University of Oregon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Educational Text-book publisher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Whiteboard technology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Webques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60020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Baskerville Old Face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- Donna P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DL and Multiple Intelligence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y designing curriculum that supports Multiple means of Presentation, Expression and Engagement you naturally support the Multiple Intelligences of students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Differentiated Instruction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iated Instruction is a teaching theory based on the premise that instructional approaches should vary and be adapted in relation to individual and diverse students in classrooms (Tomlinson, 2001)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Elements of Differentiated Instruction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everal elements and materials are used to support instructional content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Tasks and objectives are aligned to learning goal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Instruction is concept focused and principle drive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Flexible grouping is consistently used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lassroom Management techniqu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Initial and ongoing assessment of student readiness and growth are essential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tudents are active and responsible explorer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Vary expectations and requirements for student respons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larify key concep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Use assessment as a teaching tool to extend rather than merely measure instructio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mphasize critical and creative thinking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ngaging all learners is essential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Provide a balance between teacher-assigned and student-selected task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358280" y="5715000"/>
            <a:ext cx="68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o you see how UDL principles easily fit with the concept of D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Baskerville Old Face"/>
              </a:rPr>
              <a:t>Multiple Intelligences</a:t>
            </a:r>
            <a:endParaRPr b="0" lang="en-US" sz="4500" spc="-1" strike="noStrike">
              <a:solidFill>
                <a:srgbClr val="ccec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Multiple Intelligence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Body/Kinesthetic or “body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Interpersonal or “peopl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Intrapersonal or “self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ogical/Mathematic or “number/reasoning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sical/Rhythmic or “music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Verbal/Linguistic or “word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Visual/Spatial  or “pictur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Naturalistic  or “natur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xistential  or “collective conscious smart?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399760" y="624852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e: Howard Gardner, David Lazear, David Ko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135520" y="549900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kind of “smart” are yo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754280" y="68580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kind of “smart” are yo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04640" y="2971800"/>
            <a:ext cx="709956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1"/>
              </a:rPr>
              <a:t>http://www.bgfl.org/bgfl/custom/resources_ftp/client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2"/>
              </a:rPr>
              <a:t>ftp/ks3/ict/multiple_int/questions/choose_lang.cfm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3"/>
              </a:rPr>
              <a:t>http://www.ldrc.ca/projects/miinventory/miinventory.ph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Exploring Technology to support a UDL classroom!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960" y="2241720"/>
            <a:ext cx="37206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urzweil 3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crosoft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llitools Classroom Su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ers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’s not just about digital media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523880" y="380880"/>
            <a:ext cx="8077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Palatino"/>
              </a:rPr>
              <a:t>Technology is something invented (WHEN, BEFORE, AFTER)  you are bor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354760" y="5334120"/>
            <a:ext cx="65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What types of “technology” are your students using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Image"/>
          <p:cNvPicPr/>
          <p:nvPr/>
        </p:nvPicPr>
        <p:blipFill>
          <a:blip r:embed="rId1"/>
          <a:stretch/>
        </p:blipFill>
        <p:spPr>
          <a:xfrm rot="580200">
            <a:off x="4649400" y="3130200"/>
            <a:ext cx="124128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inimo-a"/>
          <p:cNvPicPr/>
          <p:nvPr/>
        </p:nvPicPr>
        <p:blipFill>
          <a:blip r:embed="rId2"/>
          <a:srcRect l="24606" t="18256" r="24606" b="18256"/>
          <a:stretch/>
        </p:blipFill>
        <p:spPr>
          <a:xfrm rot="19855200">
            <a:off x="593640" y="3109680"/>
            <a:ext cx="13716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aim_logo"/>
          <p:cNvPicPr/>
          <p:nvPr/>
        </p:nvPicPr>
        <p:blipFill>
          <a:blip r:embed="rId3"/>
          <a:stretch/>
        </p:blipFill>
        <p:spPr>
          <a:xfrm>
            <a:off x="2514600" y="19810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otorolaV400big"/>
          <p:cNvPicPr/>
          <p:nvPr/>
        </p:nvPicPr>
        <p:blipFill>
          <a:blip r:embed="rId4"/>
          <a:srcRect l="10982" t="21203" r="13761" b="3598"/>
          <a:stretch/>
        </p:blipFill>
        <p:spPr>
          <a:xfrm rot="1320600">
            <a:off x="7086600" y="1905120"/>
            <a:ext cx="1357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Origins of Universal Design for Learning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merican’s with Disabilities Act (ADA) – access and reasonable accommodation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orth Carolina State University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Universal Design and Architecture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Accessible features are integrated into the overall design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enter for Applied Special Technology (CAST)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Universal Design for Learning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- Donna Palley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What does architecture have to do with curriculum?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114800" cy="28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752480" y="53341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needs of the broadest possible range of users from the beginn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hitect, Ron 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Retro-fitted vs. built-in: 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3413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Retro-fitted curriculum vs. curriculum designed to meet multiple student needs: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Making things DIGITAL is one part of this initiative to make the general education curriculum inherently accessible to all students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09480" y="2590920"/>
            <a:ext cx="2362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Get your #2 pencils read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57200" y="5335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1"/>
          <a:stretch/>
        </p:blipFill>
        <p:spPr>
          <a:xfrm>
            <a:off x="5486400" y="2057400"/>
            <a:ext cx="1609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4:29:37Z</dcterms:created>
  <dc:creator> Jay</dc:creator>
  <dc:description/>
  <dc:language>en-US</dc:language>
  <cp:lastModifiedBy>BHS</cp:lastModifiedBy>
  <dcterms:modified xsi:type="dcterms:W3CDTF">2010-06-25T19:01:24Z</dcterms:modified>
  <cp:revision>47</cp:revision>
  <dc:subject/>
  <dc:title>Universal Design for Learning: Including All Students in the General Education Curriculum</dc:title>
</cp:coreProperties>
</file>